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51F-0A7C-4C6F-B634-63CE7B5B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62B-F14C-4E5D-864F-1F8B1FC1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9A4-10E7-4B26-894C-BC1447BA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1AC-5333-43DE-ACC7-41C4C8ED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4293-CCBC-4879-A6EC-A995E0B6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5B0A-453A-4D67-83CC-B987AFF1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CB1B-A37C-40C9-8ABF-D0F30EF6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BCA8-1572-4D1A-96AE-3B7D37C8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519B-F9D2-46E2-8BFE-35D3685D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F90D-7505-4358-BE8D-1EE347DC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82B5-10F1-4267-87F7-33B53235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5A8-1DE0-49B2-98B2-ACE95E5D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B134-E4AA-4BCF-8B57-965364F4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912A-DA8B-444F-A982-8AAA4100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B41D-E3F6-4ABD-ABD2-831F8384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BA6F-E4E7-4066-8712-69AE33C2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E7A2-E04A-40E3-8460-725A6920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9D4-FEAA-400A-82F2-4B5DD1A1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4E2-22E5-42B2-B14B-C8328248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B94-F8D3-4AAA-98FB-A16B632B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39A-B96D-4A85-B25D-A3919F0E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2D6-00B4-4C61-ABBC-59CC39C9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DD2-07DC-4542-A78D-E489BFE0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E33-0BA4-44C9-817B-10D73963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AB65-51B3-48E6-BB47-2CD90526B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A491-3115-46DF-BB5D-9D4D40C0D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56500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直线度、平面度误差测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03280" y="1700280"/>
            <a:ext cx="655344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实验目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加深对直线度、平面度的认识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学会直线度、平面度的检测及数据处理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实验仪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钢板尺、平板、可调支承、百分表、被测工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8"/>
          <p:cNvSpPr/>
          <p:nvPr/>
        </p:nvSpPr>
        <p:spPr>
          <a:xfrm>
            <a:off x="611280" y="1125360"/>
            <a:ext cx="83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线度公差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7993080" cy="1819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9"/>
          <p:cNvSpPr/>
          <p:nvPr/>
        </p:nvSpPr>
        <p:spPr>
          <a:xfrm>
            <a:off x="395280" y="162684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给定平面内的直线度公差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差带是距离为公差值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两平行直线之间的区域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332000" y="47628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直线度误差检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39640" y="11797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任意方向的直线度公差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在公差值前加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Φ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公差带是直径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圆柱面内的区域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741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755640" y="76500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直线度误差检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187280" y="134136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间隙法测直线度误差：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钢板尺（平尺、平晶、精密短导轨等）模拟理想直线，与被测实际直线比较，根据间隙大小来确定直线度误差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 rot="6222600">
            <a:off x="7236360" y="116280"/>
            <a:ext cx="1081080" cy="1368360"/>
          </a:xfrm>
          <a:prstGeom prst="wedgeEllipseCallout">
            <a:avLst>
              <a:gd name="adj1" fmla="val 70833"/>
              <a:gd name="adj2" fmla="val 7501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 rot="2032800">
            <a:off x="7301880" y="6188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原理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2" descr="4-17"/>
          <p:cNvPicPr/>
          <p:nvPr/>
        </p:nvPicPr>
        <p:blipFill>
          <a:blip r:embed="rId1"/>
          <a:srcRect l="0" t="0" r="6803" b="15737"/>
          <a:stretch/>
        </p:blipFill>
        <p:spPr>
          <a:xfrm>
            <a:off x="2771640" y="3357720"/>
            <a:ext cx="3384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1"/>
          <p:cNvSpPr/>
          <p:nvPr/>
        </p:nvSpPr>
        <p:spPr>
          <a:xfrm>
            <a:off x="900000" y="90792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求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至少取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~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测量位置，用塞规测量各点的间隙，取各测量点中的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最大间隙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为被测直线的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直线度误差值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2" descr="http://www.hbbljt.com/sc/6.gif"/>
          <p:cNvPicPr/>
          <p:nvPr/>
        </p:nvPicPr>
        <p:blipFill>
          <a:blip r:embed="rId1"/>
          <a:stretch/>
        </p:blipFill>
        <p:spPr>
          <a:xfrm>
            <a:off x="2700360" y="2924280"/>
            <a:ext cx="3456000" cy="3244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796000" y="60213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塞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"/>
          <p:cNvSpPr/>
          <p:nvPr/>
        </p:nvSpPr>
        <p:spPr>
          <a:xfrm>
            <a:off x="1547640" y="549360"/>
            <a:ext cx="47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平面度误差检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926000" y="11970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面度公差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174400"/>
            <a:ext cx="75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面度公差用于限制被测实际平面的形状误差，同时可以限制被测表面的直线度误差。公差带是距离为公差值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两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平面之间的区域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图片 4" descr=""/>
          <p:cNvPicPr/>
          <p:nvPr/>
        </p:nvPicPr>
        <p:blipFill>
          <a:blip r:embed="rId1"/>
          <a:stretch/>
        </p:blipFill>
        <p:spPr>
          <a:xfrm>
            <a:off x="1403280" y="3645000"/>
            <a:ext cx="65167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5"/>
          <p:cNvSpPr/>
          <p:nvPr/>
        </p:nvSpPr>
        <p:spPr>
          <a:xfrm>
            <a:off x="1403280" y="98100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点法侧平面度误差：用百（千）分表调整被测表面上相距最远的三点距平板等高，然后在被测表面上均匀画线布点，逐点进行测量并记录读数，将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最大差值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为平面度误差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图片 1" descr="4-19"/>
          <p:cNvPicPr/>
          <p:nvPr/>
        </p:nvPicPr>
        <p:blipFill>
          <a:blip r:embed="rId1"/>
          <a:stretch/>
        </p:blipFill>
        <p:spPr>
          <a:xfrm>
            <a:off x="3059280" y="3436920"/>
            <a:ext cx="4825800" cy="2978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0920" y="476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面度误差检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87280" y="1341360"/>
            <a:ext cx="653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求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至少取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~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测量点，用百分表测量各点并读数，以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最大读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值和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最小读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值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之差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作为被测表面的平面度误差值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2:19:06Z</dcterms:created>
  <dc:creator>机械工程系</dc:creator>
  <dc:description/>
  <dc:language>en-US</dc:language>
  <cp:lastModifiedBy>机械工程系</cp:lastModifiedBy>
  <dcterms:modified xsi:type="dcterms:W3CDTF">2012-11-13T02:53:52Z</dcterms:modified>
  <cp:revision>34</cp:revision>
  <dc:subject/>
  <dc:title>量具使用</dc:title>
</cp:coreProperties>
</file>