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2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3.png" ContentType="image/png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3FE-B450-49FF-9094-320AE6AE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A60-4832-4C65-ACA8-AD6BE133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855-A84B-4EB9-9430-1C3A121A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C2E-118B-4D60-A88D-B865AAD4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9154-9C10-4E8C-ADA6-05F9C08B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9F1F-2755-4B95-8349-F133135D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0290-A00A-4094-80EB-40E86035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E978-D268-4AAA-873F-A50354B2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D054-545C-4FF7-9B52-0B2FC61F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7C7F-F2EB-4FD0-A27B-F3DEFE91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47F8-95DB-4C7B-9EEB-77CBA2ED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621-0FAC-4B28-BCBC-ADB62C10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5538-E606-432B-92DC-3166FF16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CCF8-1FAE-4B70-BA4E-1EBE5603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BA9B-EA8D-41C0-871B-9003623A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5DA4-21E0-4607-8638-6B6DDEC9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89F2-128A-4257-8081-64D099D2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A3FF-43F2-442C-9F3D-4172F22B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921B-D3D5-4629-9A26-CBE333A0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ADC9-E6AE-409F-8955-0CEB6C93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0B57-3D8C-4767-8C0A-4F5D704F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95851-ECD5-4B38-98EB-7C818EB0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6BD-DD61-401E-ADFF-B2BE4D04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9C9C-2D72-404F-87C2-C0065F8D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B572-FFCF-4555-A7EC-BFB2DAEA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DAE04-5A2E-4347-A363-6773E26A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A9015-5CCD-492F-A33C-E9F35A67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5089-CF28-420D-A0B0-3967F3FF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81698-5232-474C-A2B9-A8A0BB8A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B4AB1-74E3-41B1-A7ED-25EBCD9F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E857B-C633-4E9F-9F1A-25A6B89E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AB260-C982-4A0E-AF33-73560B39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46274-50F3-4F48-BE70-D8CD1839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E400-1B5E-476F-86F1-D6FF3F4C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583D6-F43A-438D-AEFE-9C9A4DA4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5A6D-B57D-43D1-8FAE-C9D2FE5B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38D4F-FF1A-4070-9090-FB2498D4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40A65-6EF0-40F9-8ECE-D3EAC4D0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70CF5-17DE-4AB1-8052-187C8FB8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A14C2-CA8A-4F4D-9CBB-4F1DF1C8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E6823-25B8-4F5B-A9EB-AA1DC612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8F92-5D5B-4713-8BA8-E0D0B0A7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051E7-E6E1-4BCD-A4A6-F1FA23AC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354-DC23-44D4-9644-B8AD0E01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377-3BEB-4437-8EA7-9EA4A594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D91-7B79-457D-A629-F6C02FD3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03D-C0D8-40C0-8393-9B42C42E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473-3C52-491E-8781-8B82887F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A0DD-66ED-4EEE-A84B-F77FE155360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0E4C-C086-4C85-A797-0451343FBA6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CC3E-FADB-4077-8C7D-57030E9D81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4A0D-2CC4-4161-9B7D-D6E1A93034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package" Target="../embeddings/oleObject2.pptx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497040" y="126756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挠性传动的类型、特点及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54000" y="33336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带传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1227240"/>
            <a:ext cx="6985080" cy="24559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问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电动机的运动是如何传至主轴，并使主轴   转速分为两挡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带传动在该传动系统中起什么作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它属于什么类型的传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何特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何进行设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析问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带传动用于原动机与工作机之间的传动；主轴转速分为两挡，通过更换带轮的方法实现换挡，调整工作部分与原动机部分的速度关系，实现减速、增速和变速要求。带传动和链传动都属于挠性传动，挠性传动是通过中间挠性件传递运动和动力的传动形式，其主要作用就是传递转矩和改变转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1692360" y="1773360"/>
            <a:ext cx="5758920" cy="4654080"/>
            <a:chOff x="1692360" y="1773360"/>
            <a:chExt cx="5758920" cy="465408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1692360" y="1773360"/>
              <a:ext cx="2822400" cy="2291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pic>
          <p:nvPicPr>
            <p:cNvPr id="216" name="" descr=""/>
            <p:cNvPicPr/>
            <p:nvPr/>
          </p:nvPicPr>
          <p:blipFill>
            <a:blip r:embed="rId2"/>
            <a:srcRect l="4574" t="4294" r="0" b="4294"/>
            <a:stretch/>
          </p:blipFill>
          <p:spPr>
            <a:xfrm>
              <a:off x="4583880" y="1773360"/>
              <a:ext cx="2809440" cy="229104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pic>
          <p:nvPicPr>
            <p:cNvPr id="217" name="" descr=""/>
            <p:cNvPicPr/>
            <p:nvPr/>
          </p:nvPicPr>
          <p:blipFill>
            <a:blip r:embed="rId3"/>
            <a:srcRect l="0" t="1530" r="0" b="6139"/>
            <a:stretch/>
          </p:blipFill>
          <p:spPr>
            <a:xfrm>
              <a:off x="1692360" y="4084920"/>
              <a:ext cx="2835360" cy="23425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4583880" y="4084920"/>
              <a:ext cx="2867400" cy="23407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</p:grpSp>
      <p:sp>
        <p:nvSpPr>
          <p:cNvPr id="219" name=""/>
          <p:cNvSpPr/>
          <p:nvPr/>
        </p:nvSpPr>
        <p:spPr>
          <a:xfrm>
            <a:off x="1189440" y="62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带轮实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68360" y="115920"/>
            <a:ext cx="1800000" cy="38109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五、带传动的张紧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普通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带传动长期在张紧状态下工作，会由于塑性变形而松弛，使初  拉力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减小，导致传动能力下降，甚至失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6443640" cy="44704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4878360" y="5574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Tahoma"/>
                <a:ea typeface="隶书"/>
              </a:rPr>
              <a:t>带传动的张紧装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ahoma"/>
              </a:rPr>
              <a:t>张紧的目的：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1048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根据带的摩擦传动原理，带必须在预张紧后才能正常工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59280" y="4616280"/>
          <a:ext cx="2639880" cy="198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616280"/>
                    <a:ext cx="263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1189080" y="2965320"/>
            <a:ext cx="7920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3399"/>
                </a:solidFill>
                <a:latin typeface="Times New Roman"/>
                <a:ea typeface="华文中宋"/>
              </a:rPr>
              <a:t>   </a:t>
            </a:r>
            <a:r>
              <a:rPr b="0" lang="zh-CN" sz="2200" spc="-1" strike="noStrike">
                <a:solidFill>
                  <a:srgbClr val="003399"/>
                </a:solidFill>
                <a:latin typeface="Times New Roman"/>
                <a:ea typeface="华文中宋"/>
              </a:rPr>
              <a:t>运转一定时间后，带会松弛，为了保证带传动的能力，必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3399"/>
                </a:solidFill>
                <a:latin typeface="Times New Roman"/>
                <a:ea typeface="华文中宋"/>
              </a:rPr>
              <a:t>    </a:t>
            </a:r>
            <a:r>
              <a:rPr b="0" lang="zh-CN" sz="2200" spc="-1" strike="noStrike">
                <a:solidFill>
                  <a:srgbClr val="003399"/>
                </a:solidFill>
                <a:latin typeface="Times New Roman"/>
                <a:ea typeface="华文中宋"/>
              </a:rPr>
              <a:t>重新张紧，才能正常工作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3860640"/>
            <a:ext cx="7740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3399"/>
                </a:solidFill>
                <a:latin typeface="Times New Roman"/>
                <a:ea typeface="华文中宋"/>
              </a:rPr>
              <a:t>    </a:t>
            </a:r>
            <a:r>
              <a:rPr b="0" lang="zh-CN" sz="2200" spc="-1" strike="noStrike">
                <a:solidFill>
                  <a:srgbClr val="003399"/>
                </a:solidFill>
                <a:latin typeface="Times New Roman"/>
                <a:ea typeface="华文中宋"/>
              </a:rPr>
              <a:t>常见的张紧装置有定期张紧装置、自动张紧装置、张紧轮张紧装置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5307120"/>
            <a:ext cx="146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3399"/>
                </a:solidFill>
                <a:latin typeface="Times New Roman"/>
                <a:ea typeface="华文中宋"/>
              </a:rPr>
              <a:t>1.</a:t>
            </a:r>
            <a:r>
              <a:rPr b="0" lang="zh-CN" sz="2200" spc="-1" strike="noStrike">
                <a:solidFill>
                  <a:srgbClr val="003399"/>
                </a:solidFill>
                <a:latin typeface="Times New Roman"/>
                <a:ea typeface="华文中宋"/>
              </a:rPr>
              <a:t>定期张紧装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727600" y="4616280"/>
          <a:ext cx="2644920" cy="19814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7600" y="4616280"/>
                    <a:ext cx="26449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自动张紧装置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262160" y="1770120"/>
          <a:ext cx="3651120" cy="2738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1770120"/>
                    <a:ext cx="365112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241640" y="42721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华文中宋"/>
              </a:rPr>
              <a:t>3.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华文中宋"/>
              </a:rPr>
              <a:t>张紧轮装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859280" y="3289320"/>
          <a:ext cx="3740040" cy="28036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89320"/>
                    <a:ext cx="374004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平行轴传动时，各带轮的轴线必须保持规定的平行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安装皮带时，应通过调整中心距使皮带张紧，严禁强行撬入和撬出，以免损伤皮带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840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</a:rPr>
              <a:t>六、带传动的安装与维护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26600" y="3906720"/>
            <a:ext cx="482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3.</a:t>
            </a: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不同厂家的</a:t>
            </a: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V</a:t>
            </a: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带和新旧不同的</a:t>
            </a: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V</a:t>
            </a: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带，不能同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79800" y="4411800"/>
            <a:ext cx="3801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4.</a:t>
            </a: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按规定的张紧力张紧（测定方法如右图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16120" y="5052960"/>
            <a:ext cx="195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5.</a:t>
            </a: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加防护罩以保护安全，防酸、碱、油及不在</a:t>
            </a: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以上的环境下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rcRect l="31563" t="13929" r="26911" b="37653"/>
          <a:stretch/>
        </p:blipFill>
        <p:spPr>
          <a:xfrm>
            <a:off x="684360" y="2017800"/>
            <a:ext cx="4141800" cy="3106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28868" t="17768" r="29126" b="38933"/>
          <a:stretch/>
        </p:blipFill>
        <p:spPr>
          <a:xfrm>
            <a:off x="4900680" y="2637000"/>
            <a:ext cx="377172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55640" y="2324160"/>
            <a:ext cx="7777080" cy="2727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带传动有良好的弹性，能缓冲吸振，传动平稳，噪声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过载时带在带轮上打滑，具有过载保护作用。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带传动的传动比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准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传动效率较低，带的寿命较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外廓尺寸大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结构简单，制造、安装和维护较方便，且成本低廉，适用于两轴中心距较大的场合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14360" y="981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ahoma"/>
              </a:rPr>
              <a:t>一、带传动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1189080" y="1994040"/>
            <a:ext cx="3743280" cy="1939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3787560" y="3428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96000" y="660240"/>
            <a:ext cx="2448000" cy="22881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摩擦带传动由主动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从动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环形挠性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组成，它是靠挠性传动带与带轮间的摩擦力来传递运动和动力的，属于摩擦传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4364640"/>
            <a:ext cx="23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Tahoma"/>
                <a:ea typeface="隶书"/>
              </a:rPr>
              <a:t>摩擦带传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15520" y="260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ahoma"/>
                <a:ea typeface="隶书"/>
              </a:rPr>
              <a:t>二、带传动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42000" y="8366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）摩擦带传动</a:t>
            </a:r>
            <a:r>
              <a:rPr b="0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rcRect l="974" t="0" r="0" b="4445"/>
          <a:stretch/>
        </p:blipFill>
        <p:spPr>
          <a:xfrm>
            <a:off x="611280" y="4869000"/>
            <a:ext cx="7391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687840" y="4869000"/>
            <a:ext cx="5060880" cy="16160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6874920" y="4220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Tahoma"/>
                <a:ea typeface="隶书"/>
              </a:rPr>
              <a:t>挠性啮合传动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42120" y="620640"/>
            <a:ext cx="20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）啮合带传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1628640"/>
            <a:ext cx="2448000" cy="18493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常由主动同步带轮、从动同步带轮和环形同步带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它是靠带内侧面齿与带轮齿槽相啮合来实现传动，属于啮合传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716360" y="1984320"/>
            <a:ext cx="23767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3670200"/>
            <a:ext cx="8569080" cy="22881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（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）平带传动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构最简单，传动效率较高，在传动中心距较大的场合中应用较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（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） 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V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带传动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主要用于传动能力较大、结构要求紧凑的场合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带传动较平带传动能力好，应用较普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（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）多楔带传动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综合了平带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带传动的优点，主要用于传递较大的功率、结构要求紧凑的场合，但结构复杂、制造不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（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）圆带传动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传动能力较小，一般用于轻型和小型机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01480" y="2060640"/>
            <a:ext cx="8642520" cy="1479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895680" y="476280"/>
            <a:ext cx="23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摩擦带传动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rcRect l="2935" t="7341" r="2935" b="3648"/>
          <a:stretch/>
        </p:blipFill>
        <p:spPr>
          <a:xfrm>
            <a:off x="5435640" y="189000"/>
            <a:ext cx="3457440" cy="1380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2987640" y="907920"/>
            <a:ext cx="2448000" cy="1127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51480" y="764280"/>
            <a:ext cx="28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2. V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带的结构和标准</a:t>
            </a:r>
            <a:r>
              <a:rPr b="1" lang="zh-CN" sz="2800" spc="-1" strike="noStrike">
                <a:solidFill>
                  <a:srgbClr val="ff33cc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16000" y="1485720"/>
            <a:ext cx="6981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普通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带为无接头的环形结构，由顶胶、抗拉体、底胶、包布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抗拉体有帘芯和线芯两种结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5185080" cy="19447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1403280" y="5078520"/>
            <a:ext cx="1086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72360" y="2276640"/>
            <a:ext cx="2520720" cy="2727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普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带的规格、尺寸、性能、使用要求都已标准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按截面尺寸分为七种型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其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截面最小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截面最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8000" y="573408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隶书"/>
                <a:ea typeface="隶书"/>
              </a:rPr>
              <a:t>普通</a:t>
            </a:r>
            <a:r>
              <a:rPr b="1" lang="zh-CN" sz="2000" spc="-1" strike="noStrike">
                <a:solidFill>
                  <a:srgbClr val="ff33cc"/>
                </a:solidFill>
                <a:latin typeface="隶书"/>
                <a:ea typeface="隶书"/>
              </a:rPr>
              <a:t>V</a:t>
            </a:r>
            <a:r>
              <a:rPr b="1" lang="zh-CN" sz="2000" spc="-1" strike="noStrike">
                <a:solidFill>
                  <a:srgbClr val="ff33cc"/>
                </a:solidFill>
                <a:latin typeface="隶书"/>
                <a:ea typeface="隶书"/>
              </a:rPr>
              <a:t>带的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00000" y="1741320"/>
            <a:ext cx="7724880" cy="38466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   </a:t>
            </a:r>
            <a:r>
              <a:rPr b="0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节宽</a:t>
            </a:r>
            <a:r>
              <a:rPr b="0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b</a:t>
            </a:r>
            <a:r>
              <a:rPr b="0" lang="zh-CN" sz="2400" spc="-1" strike="noStrike" baseline="-25000">
                <a:solidFill>
                  <a:srgbClr val="ff33cc"/>
                </a:solidFill>
                <a:latin typeface="隶书"/>
                <a:ea typeface="隶书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: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带绕过带轮弯曲时，外层受拉伸长，内层受压缩短，中间有一层保持长度不变，其宽度称为节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基准直径</a:t>
            </a:r>
            <a:r>
              <a:rPr b="0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d</a:t>
            </a:r>
            <a:r>
              <a:rPr b="0" lang="zh-CN" sz="2400" spc="-1" strike="noStrike" baseline="-25000">
                <a:solidFill>
                  <a:srgbClr val="ff33cc"/>
                </a:solidFill>
                <a:latin typeface="隶书"/>
                <a:ea typeface="隶书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带轮上，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相对应的带轮直径称为基准直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带的公称长度</a:t>
            </a:r>
            <a:r>
              <a:rPr b="0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带在带轮基准直径上的周线长度称为基准长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并以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带的公称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隶书"/>
                <a:ea typeface="隶书"/>
              </a:rPr>
              <a:t>      </a:t>
            </a:r>
            <a:r>
              <a:rPr b="0" lang="zh-CN" sz="1800" spc="-1" strike="noStrike">
                <a:solidFill>
                  <a:srgbClr val="ff33cc"/>
                </a:solidFill>
                <a:latin typeface="隶书"/>
                <a:ea typeface="隶书"/>
              </a:rPr>
              <a:t>V</a:t>
            </a:r>
            <a:r>
              <a:rPr b="0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带标记</a:t>
            </a:r>
            <a:r>
              <a:rPr b="0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类型—基准长度 国标标准编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例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:A—1400 GB/T 11544—199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表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普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带，基准长度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400 m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476360" y="1659240"/>
            <a:ext cx="6192720" cy="34995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、</a:t>
            </a:r>
            <a:r>
              <a:rPr b="0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V</a:t>
            </a:r>
            <a:r>
              <a:rPr b="0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带轮的材料</a:t>
            </a:r>
            <a:r>
              <a:rPr b="0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带轮材料常采用灰铸铁、钢、铝合金或工程塑料，其中灰铸铁应用最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当带轮的圆周速度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5 m/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以下时，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HT1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HT200;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当转速较高时，可采用铸钢或钢板冲压焊接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传递小功率时可用铸铝或塑料，以减轻带轮重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1197000"/>
            <a:ext cx="1439640" cy="1410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带轮的结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带轮由轮缘、轮辐、轮毂三部分组成。分为实心式、腹板式和轮辐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6410520" cy="47880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5051880" y="6165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Tahoma"/>
                <a:ea typeface="隶书"/>
              </a:rPr>
              <a:t>带轮的结构</a:t>
            </a:r>
            <a:r>
              <a:rPr b="1" lang="zh-CN" sz="20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2:13:20Z</dcterms:created>
  <dc:creator>fxzm</dc:creator>
  <dc:description/>
  <dc:language>en-US</dc:language>
  <cp:lastModifiedBy>Lenovo User</cp:lastModifiedBy>
  <dcterms:modified xsi:type="dcterms:W3CDTF">2012-11-13T10:45:15Z</dcterms:modified>
  <cp:revision>30</cp:revision>
  <dc:subject/>
  <dc:title>幻灯片 1</dc:title>
</cp:coreProperties>
</file>