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ABDE-4F0B-4F83-8579-52612FFD7BC7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FDEB-76DE-4664-95FD-6AA7ABA16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E463-9185-4AB9-B8CB-2B5BE19BEB2F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AD2D-6365-46D9-A22E-DAA56381BB5A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B553-AF9B-43D1-A464-9D178EE22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1707A-3F51-451F-915B-5096C650E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CE37-92FD-4341-8955-3278EF445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BE1F-6CEE-425B-A6AD-3B735CDEB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305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C0F6-A6A6-45BF-8120-2219E5D04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62FD2-3338-4921-9CD7-8F68B6A5B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32B5-4740-45AD-90D4-E5A2CF05C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CBC4-0EA8-466C-A791-4020E8BDA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305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FFD7-4DAF-4A0C-9177-9033EEF69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08AA-EB84-4863-AC10-4F4A34CF0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CD43-5A2C-4616-8C79-AB24E77D0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45B1-5B68-4149-9B88-57757BAC6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0" y="26208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《</a:t>
            </a:r>
            <a:r>
              <a:rPr b="1" lang="zh-CN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计算机应用基础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》</a:t>
            </a:r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963720"/>
            <a:ext cx="9140760" cy="46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c71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C81E-E7A6-4E4A-B841-CB5D15117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4041720"/>
          </a:xfrm>
          <a:prstGeom prst="rect">
            <a:avLst/>
          </a:prstGeom>
          <a:gradFill rotWithShape="0">
            <a:gsLst>
              <a:gs pos="0">
                <a:srgbClr val="0c71e0"/>
              </a:gs>
              <a:gs pos="100000">
                <a:srgbClr val="0634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4933800"/>
            <a:ext cx="9163080" cy="194184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4826160"/>
            <a:ext cx="9156600" cy="168120"/>
          </a:xfrm>
          <a:prstGeom prst="rect">
            <a:avLst/>
          </a:prstGeom>
          <a:gradFill rotWithShape="0">
            <a:gsLst>
              <a:gs pos="0">
                <a:srgbClr val="8bc91b"/>
              </a:gs>
              <a:gs pos="100000">
                <a:srgbClr val="405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-11160" y="2060640"/>
            <a:ext cx="9155160" cy="27655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7" name="Oval 8"/>
          <p:cNvSpPr/>
          <p:nvPr/>
        </p:nvSpPr>
        <p:spPr>
          <a:xfrm>
            <a:off x="228600" y="228600"/>
            <a:ext cx="479520" cy="479520"/>
          </a:xfrm>
          <a:prstGeom prst="ellipse">
            <a:avLst/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c71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042920" y="1844640"/>
            <a:ext cx="7056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章 多媒体软件的应用</a:t>
            </a:r>
            <a:r>
              <a:rPr b="0" lang="zh-CN" sz="2400" spc="-1" strike="noStrike">
                <a:solidFill>
                  <a:srgbClr val="0c71e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BA0A-6D4E-4C3B-B257-F9D6326870F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754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截取屏幕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浏览动画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录制声音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播放视频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7A9D-20B8-4CF1-8A95-22D41622D5B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媒体文件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文本文件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图形图像文件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画文件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视频文件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音文件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646C-EA79-449A-8709-A407AC1F5ED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A8F0-74E6-4F40-A6DA-93121B516CC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6.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图像处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三个任务来完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图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裁剪图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添加文本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B236-B5F5-4937-8969-613FC695BAC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浏览图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了解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图像的预览，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DSe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图像的基本操作，包括图像查看、图像缩放、保存图像文件等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30CE-A261-4244-912B-4B0198AEC80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浏览图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754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缩略图查看</a:t>
            </a:r>
            <a:r>
              <a:rPr b="1" lang="zh-CN" sz="24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幻灯片查看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CDSee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快速查看器</a:t>
            </a:r>
            <a:r>
              <a:rPr b="1" lang="zh-CN" sz="24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CDSee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完整查看器</a:t>
            </a:r>
            <a:r>
              <a:rPr b="1" lang="zh-CN" sz="24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CDSee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相片管理器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存图像文件  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975F-B2F8-4517-B3CE-1CF0CF1CABF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浏览图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快速查看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CDSe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理文件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修正和改善你的照片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享你最喜欢的照片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家庭打印轻而易举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你的照片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EF2E-72C9-4AAB-B3E8-DD6FD9BC171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浏览图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B73D-101D-4076-B286-355AAC2D82F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加工图像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了解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DSe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件中图像的常用加工工具，掌握加工图像的基本操作，包括调整图像、添加图像效果、保存加工结果等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B759-0215-4CD9-A388-D29DB68FD1B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加工图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754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整图像大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像自动曝光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整图像亮度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裁剪图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添加图像效果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存图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7631-C9A7-42B2-93EF-7887FC57282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4000" y="129492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与人之间进行信息交流，可以使用文字、图形、图像、声音、动画、视频等多种形式。随着社会不断进步，科学技术不断发展，现代多媒体计算机已经能够结合各种视觉和听觉信息，制作出令人印象深刻的视听作品。</a:t>
            </a:r>
            <a:endParaRPr b="1" lang="en-US" sz="23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媒体技术是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最后十年发展的高新技术，是音频信号数字化技术、视频信号数字化技术和计算机技术相结合的产物。多媒体技术的形成和发展，不仅引起计算机工业的一次革命，也影响人类社会发生了一次巨大的变革。</a:t>
            </a:r>
            <a:endParaRPr b="1" lang="en-US" sz="23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通过截取屏幕内容、录制声音等操作、学习常见的多媒体软件（如录音机、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DSee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Media Player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Movie Maker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）的使用，理解多媒体技术相关知识，掌握多媒体素材的采集方法、多媒体文件的浏览和播放，能够做到和与家人、朋友一同享受计算机多媒体世界的影音视听娱乐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2FD7-6C94-40C6-B774-905E3D6DEA7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加工图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像素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辨率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2F51-6521-4256-8DDC-7D9078C75E2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加工图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6315-96FA-4DEA-84FA-AA0361590E8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添加文本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DSe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件中给图像的添加文本的基本操作，包括输入文本、调整阴影等。 </a:t>
            </a:r>
            <a:br>
              <a:rPr sz="2800"/>
            </a:b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C52D-4403-4F76-8B8B-28547856D1A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添加文本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754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添加文本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文字字体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文字阴影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文字斜角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A144-3C0F-413E-857C-FB41EC81A56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添加文本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印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A9D5-F56E-4678-8537-A039766EA59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添加文本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C345-48D2-48B9-839F-D23736CF6AA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6.3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音频视频处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三个任务来完成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Media Player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“录音机”处理音频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Movie Make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电影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F135-DAAB-4712-ADB1-2B247A15B03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Media Playe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音频的播放，以及设置可视化效果、调整播放器的外观、播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乐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V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影、管理媒体库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乐翻录等操作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C8D3-B140-48CA-9BC3-BCD8F0E1F10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Media Play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754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视化效果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外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播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音乐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播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影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媒体库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音乐翻录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8000" y="3695040"/>
            <a:ext cx="41641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0" rIns="1141200" tIns="914040" bIns="914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BC49-1E83-4EB6-B258-30EE2CBA014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Media Play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媒体库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2E3F-8B84-447E-9D18-DEFE7DBA17E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	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	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6.1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多媒体技术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	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6.2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图像处理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	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6.3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音频视频处理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pic>
        <p:nvPicPr>
          <p:cNvPr id="100" name="Picture 7" descr="MCj04355460000[1]"/>
          <p:cNvPicPr/>
          <p:nvPr/>
        </p:nvPicPr>
        <p:blipFill>
          <a:blip r:embed="rId1"/>
          <a:stretch/>
        </p:blipFill>
        <p:spPr>
          <a:xfrm>
            <a:off x="6261120" y="4370400"/>
            <a:ext cx="212724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4814-CF83-4AA0-9FAD-4FCD0572AF68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Media Play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CA75-6080-4EEC-8F70-197947F0657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“录音机”处理音频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了解计算机中音频处理的操作，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“录音机”软件处理音频的常用操作，包括打开声音文件、声音效果、声音编辑等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7590-1541-4DD4-9067-B5DB2A81E05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“录音机”处理音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754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声音效果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声音编辑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E4E7-6F75-426A-89FF-2905215BCA5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“录音机”处理音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GoldWav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软件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音频编辑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回声效果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均衡器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8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B266-A8CD-4C93-B5A7-98CE60C8F64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“录音机”处理音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5242-4152-4EB4-B4C8-0432D5E2E76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了解计算机制作视频的过程，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Movie Make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电影的操作，包括打开导入视频、连接视频、视频效果、视频过渡、保存电影等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0064-99BF-4B86-B936-E5969FCCAED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754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备素材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导入视频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连接视频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视频效果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视频过渡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存电影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78200" y="2634480"/>
            <a:ext cx="228312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0" rIns="1141200" tIns="914040" bIns="9140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4552-8944-4D88-B723-ACE94EC2FBD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片头和片尾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obe Premiere Pro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声会影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F011-DDF1-4039-A58B-2206D7F5271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0D75-34E2-4761-82C9-B5C7ABFA348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6" name="WordArt 2"/>
          <p:cNvSpPr txBox="1"/>
          <p:nvPr/>
        </p:nvSpPr>
        <p:spPr>
          <a:xfrm>
            <a:off x="2556000" y="2565360"/>
            <a:ext cx="4176720" cy="11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大家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04E7-88D0-4D1E-807C-670C157CC79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6.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多媒体技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两个任务来完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多媒体技术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多媒体软件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599D-EA9C-4674-9FFD-4A6006102FE8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多媒体技术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了解媒体的分类，理解文本、图形、图像、动画、音频和视频六大基本的多媒体元素。能够浏览图像和播放音乐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0CD1-32F3-48CD-B1BE-23BB67C2F82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多媒体技术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75444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视化效果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外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播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音乐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播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影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媒体库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音乐翻录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30440" y="1234800"/>
            <a:ext cx="2283120" cy="43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0" rIns="1141200" tIns="914040" bIns="914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DC35-BF28-409E-A52E-13DC7A9D035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多媒体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媒体库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F5F2-5322-4F7C-8E3B-8C759851EC4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多媒体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ED88-14B9-4CAB-B0F5-647A120A1A6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了解常见多媒体文件格式，通过浏览动画和播放视频，了解多媒体文件格式，掌握浏览多媒体文件的方法，并通过截取屏幕抓图和简单的录音操作，掌握图像、声音等多媒体素材的采集方法。</a:t>
            </a:r>
            <a:br>
              <a:rPr sz="2800"/>
            </a:b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1:59:57Z</dcterms:created>
  <dc:creator>wtj</dc:creator>
  <dc:description/>
  <dc:language>en-US</dc:language>
  <cp:lastModifiedBy>单淮峰</cp:lastModifiedBy>
  <dcterms:modified xsi:type="dcterms:W3CDTF">2009-09-02T13:50:50Z</dcterms:modified>
  <cp:revision>128</cp:revision>
  <dc:subject/>
  <dc:title>图书馆资源整合与门户建设</dc:title>
</cp:coreProperties>
</file>