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98C-8F1A-4C14-AD86-40EA48C545F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BC24-D9D7-4F85-BCD4-84F2B456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17E-C776-4E86-BB38-461521ACB19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8F64-6AC3-4C83-BB0F-70AE27869ED0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E387-45A5-4C23-AF78-D9348F04B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CE71-CD4A-454A-9D21-2CB046357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C9C8-8E73-4644-A790-7DA629F7D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6E63-3937-4EEE-9B69-C5847D5DB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A91D-8E6A-4A78-9B86-BBA9748FF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8D51-5BCA-4F91-9335-C37174A8B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A9DF-A803-47B9-B9EF-A4F6D8D65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5B6B-F16D-4E86-9F80-9DAA3F321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5B58-527A-43D9-AFA1-5CC254A42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B6A1-8322-4C87-A16E-5C3DB2FE1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E5AD-DB8C-46F5-8F4F-029DB212E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F083-A9F9-48A0-920F-4326F4840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B61-5EE8-487A-BAC4-5A37289E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835280" y="184464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indows XP</a:t>
            </a:r>
            <a:endParaRPr b="0" lang="en-US" sz="4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0A66-9731-437E-9EE4-972AB0EFA75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桌面图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任务栏和开始菜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操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窗口与对话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0F67-4462-48BA-B899-8E148984043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鼠标操作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的帮助功能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捷键的使用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AE25-935D-45DC-9D32-F717E544423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双击桌面上的“我的文档”图标，观察打开的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指出窗口的各组成部分名称，然后分别单击窗口右上角的、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和按钮，观察窗口发生怎样的变化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通过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桌面，打开“我的电脑”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并完成移动窗口、改变窗口大小、排列窗口（打开多个窗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）、最大化、最小化、关闭窗口等操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在“我的电脑”窗口，观察“查看”菜单中哪些菜单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打开对话框？哪些菜单含有下一级菜单？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双击桌面“我的电脑”图标，打开“我的电脑”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分别浏览“文件”菜单和“编辑”菜单，观察所包含的菜单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令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A8C2-D1EA-4E73-BCDB-AA71F5474E0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2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文件资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资源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我的文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DA5-FE74-4208-B7BB-BC7068A084A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熟练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源管理器来管理自己的数据资源。主要包括资源管理器以及文件、文件夹显示属性的设置等内容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50D4-F77F-4BBE-8957-ADEAF5A5941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824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“资源管理器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“资源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文件夹列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件与文件夹的显示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B07-3CC9-4EA5-912B-1BD87E53C6E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及文件系统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夹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4FBB-6C99-4AD1-9100-3FAC8193BBE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打开“我的文档”文件夹，它包含哪几种不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类型的文件夹图标？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在“资源管理器”窗口中展开一个文件夹，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分别使用“查看”菜单中的“名称”、“类型”、“大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”和“修改时间”排列图标，观察窗口文件列表的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列方式有何不同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启动“资源管理器”，以“缩略图”的方式查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tur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夹下的所有图片文件，并显示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的扩展名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47A-156C-4009-AF58-2C387FBDE42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427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掌握文件及文件夹的基本操作，如文件及文件夹的创建、选择、复制和删除等操作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428-C043-45CB-B1FE-F2F0E949773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824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建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重命名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选择文件或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复制、移动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删除与恢复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B494-ADA5-4214-B242-C9EB0FD57B0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系统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perating Syste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简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管理计算机软硬件资源并为用户提供操作环境的的系统软件，是计算机系统的内核与基石。它使计算机系统所有资源最大限度地发挥作用，也为用户提供了方便、有效、友善的服务界面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6DF-4DFA-4951-A24C-2DAE72CAF09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回收站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或文件夹的搜索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7FAB-8198-4E08-BF65-379E931B06C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我的文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分别创建名称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文件夹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在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夹中建立一个文本文件，文件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内容自定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分别创建桌面快捷方式和快捷方式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双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的快捷方式，观察操作结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至少采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不同的方法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复制到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夹中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删除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文件夹及桌面快捷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并清空回收站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9E2-22BD-4DA6-950C-DFD63E587A1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建立简单文档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写字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8E7-E070-4FC3-A72B-C7AA9EC095C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了解写字板的基本操作，能进行中英文输入法的切换，并熟练掌握一两种常用的中文输入法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EAC8-29AC-4DDA-B554-516BEB3A1B5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3754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写字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英文输入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DB5-1E8D-4E7D-92C0-8AD3A419C84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入法选择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汉字编码方法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F86-C675-4B63-B7F6-D7414F132DB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写字板，使用搜狗拼音输入法或其他输入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，输入如下一段文字，然后保存起来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极光是一种大气光学现象。当太阳黑子、耀斑活动剧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烈时，太阳发出大量强烈的带电粒子流，沿着地磁场的磁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向南北两极移动，它以极快的速度进入地球大气的上层，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能量相当于几万或几十万颗氢弹爆炸的威力。由于带电粒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速度很快，碰撞空气中的原子时，原子外层的电子便获得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量。当这些电子获得的能量释放出来，便会辐射出一种可见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的光束，这种迷人的色彩就是极光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2353-CD56-4D44-B039-EF379055446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了解画图工具的使用方法，并能进行简单的图片处理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A45-C133-44BB-A205-362047E5B1D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画图程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及处理图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DC0B-9340-4B7B-B987-FAF1C0136F4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使用画图程序打开一幅图片，将图片分别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做水平翻转、垂直翻转及按一定角度旋转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使用画图程序绘制一个奥运五环标记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67FA-A493-48CF-A3C0-4BB76709714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1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Windows XP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管理文件资料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建立简单文档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4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管理我的计算机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5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维护我的计算机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3656-4D4F-4D97-98AB-6AD09FC55F6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4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计算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系统属性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的安装与卸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C30-FE66-4D4C-9FEE-0848A88D505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熟悉利用控制面板设置系统属性的基本方法，包括桌面、鼠标等属性的设置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EF1-720E-476C-A832-6E22C67ED37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339640" y="2060640"/>
            <a:ext cx="3754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“控制面板”窗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鼠标和键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美化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FDCB-D9B3-494F-B3D7-B042B66F0D9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键盘属性”对话框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置屏幕保护程序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17C9-4C4E-4CA3-ABC2-A8C7AFDBAC0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鼠标指针方案为“变奏”，观察设置的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分别设置鼠标滚轮的滚动幅度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和一个屏幕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然后打开一个含有多页的长文档，观察设置的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桌面的主题和背景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⑴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显示属性”对话框的“主题”下拉列表中，分别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择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经典”作为主题，观察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屏幕设置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⑵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桌面”选项卡中，选择不同的背景文件名，观察预览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⑶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桌面”选项卡中，找一张照片作为桌面背景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屏幕保护程序和外观：在“屏幕保护程序”选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卡中，选择屏幕保护图形为“飞越星空”、等待时间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钟，并预览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5CBE-5A50-47A1-95FC-7C45629E968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学会应用软件的安装、卸载以及外部设备驱动程序的安装操作，并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的使用方法。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5AB-91F6-4FFA-AAB1-E4D0C85D5A4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装和卸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装和使用打印机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8D7C-9396-491B-9C22-BCBCE04A5BD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压缩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压压缩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部设备的安装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C88-8DEA-4E64-BF8B-8241045091C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将你电脑中的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卸载，并重新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的最新版本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利用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将“我的文档”文件夹压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缩为“我的文档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.rar”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，并保存到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盘中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如果有扫描仪或数码相机，试将其连接到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计算机上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0DAF-29AB-4AF1-AF2B-25571EBC547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5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维护我的计算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盘管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病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备份与恢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FF35-CF0D-4414-BB18-9D827E9E5E8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1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与退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86E-8283-4FCE-86C3-CC3DB3B52D3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计算机使用一段时间之后，硬盘上将会产生很多磁盘碎片或大量的临时文件，致使磁盘运行空间不足，系统运行越来越慢，计算机性能下降。通过本任务的学习，将学会使用磁盘碎片整理程序和磁盘清理程序维护计算机，提高计算机的性能。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24B-78A0-45D9-9E41-F47BF285526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理磁盘碎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理磁盘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BC5-A9EA-4E27-B8B6-3B687455730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磁盘管理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启动磁盘管理程序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AF56-887A-447C-B4FD-9E759390ED3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对你使用的计算机的系统盘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）进行碎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片整理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对你使用的计算机磁盘进行磁盘清理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436D-D51B-4282-9267-5BEBA3E3F4E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互联网的迅猛发展，各种病毒也层出不穷，给人们的工作和生活带来了极大的危害，本任务主要教给大家防病毒的基本知识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6018-80E9-4971-9C22-E7F8CB94984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了解计算机病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全卫士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1080-1510-4AE2-ACD6-C75254B2E62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SET NOD3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毒软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创建用户账户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FE43-E393-4020-BA38-3E25366E10C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360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安全卫士，使用它提供的各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种功能保护计算机的安全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ESET NOD3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，并使用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查杀病毒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6A0-E710-4E89-8A56-C1E8149DE37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计算机的使用过程中，要养成定期备份重要数据的习惯，以避免因不当操作导致数据丢失，给自己的学习和工作带来一定的麻烦，本任务将教给大家备份和还原数据的基本方法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283B-69B5-4119-9B26-6332499D955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备份数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还原数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41BE-92CD-42E4-818B-5F21AE8CE12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熟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工作环境，掌握启动与退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基本方法，并了解操作系统的特点、功能及类型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E53E-92F9-47A2-B195-5FE943F03F7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rton Ghos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键还原精灵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257-900E-4B38-BDDC-CFDC8BC14BA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利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自带的备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具，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中的“学生数据”文件夹中的数据备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中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试利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rton Gho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软件备份和还原操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系统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6788-7E00-49D6-B5E2-FE3BB45867F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7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3F3-E3A3-4323-979F-AC2DDC7E378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3754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退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en-US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2D0-851D-401C-979E-7B46EC4192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的功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的特点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三个版本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A79C-1F9B-4AB5-867E-0B338A7016F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别选择“关闭计算机”对话框中的“待机”、“关闭”和“重新启动”选项，观察三者操作有什么不同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FF09-31C1-4368-BF24-4E839203C3A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2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桌面的组成以及各基本元素的操作，为进一步学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系统奠定基础 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wtj</dc:creator>
  <dc:description/>
  <dc:language>en-US</dc:language>
  <cp:lastModifiedBy>USER</cp:lastModifiedBy>
  <dcterms:modified xsi:type="dcterms:W3CDTF">2009-09-11T05:50:40Z</dcterms:modified>
  <cp:revision>123</cp:revision>
  <dc:subject/>
  <dc:title>图书馆资源整合与门户建设</dc:title>
</cp:coreProperties>
</file>