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41B-A283-4000-A496-B1D8FBC78223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4D3-1C73-40D3-ADEE-0C60CBEC2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021-CE62-4DFE-8A5B-9675283BB8AD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0984-74C1-4761-A987-C6C8AEB94C00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5471-8873-4889-A65F-8EE55EAE60A7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43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1369-00D7-47D7-85B4-869E12549F05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37A-09B0-40F1-8762-178ADAEFE404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4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E605-5A33-426B-A0D2-D2BD43295BD2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2FC9-70EA-4DB2-8615-32BDE6919F44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51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E4ED-828C-4872-AC6D-C777A4A6EF2F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131C-A0F0-4B01-AD7A-7BB5814A3526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55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3E75-544B-4A0A-86C4-20A4028C1112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409D-0ADC-43C3-BD9E-092257E6758E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59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CCC7-5640-44EC-AA7C-6C74520D33F8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0819-FEB6-4FB2-BDCA-EC399F949984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63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545-845C-498C-841E-172150817EBF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5F22-18C0-4940-8084-7CE43C4C49AF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6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D3DC-9116-4267-B7F8-DC39D8D695C3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7DC6-031E-4CDF-B604-346C959101AC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71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C9C5-A722-4949-A657-CB8CE64C557C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9F2C-0BF1-472B-B0F9-C628A31AAB11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75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13CE-5C75-40B5-99AA-27DA72F3472A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E972-9F89-4A40-B679-7B15385FE8C8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79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E868-216F-48B6-8237-8C46EA4F9B1B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84D-71FE-4035-B3AA-7856F204C92B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83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0036-9D13-4945-BD61-2AD650C8F3EB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35FC-90C9-45E3-8B81-E0CCF63B6711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8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BB32-AAB3-45B6-9308-4A55ECF7D033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72F6-C616-410E-8B9D-A3A29D21249D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91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5511-7806-4D02-9D00-EC9B66C5289D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C6B8-46FB-40F3-9204-C24EA529ED94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3D8A-FA93-49FA-B527-078C055ED3E2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E214-80DF-4C4A-BBFA-EA00C37DC2C6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0ABE-CBB5-4AF2-B865-515244246816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8B30-0017-499D-8E45-EF5CB79EC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8C1E-EEC8-4B5B-9AF2-4A5ABEE70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8B44-24F4-45DE-BB4A-0B7B6DB3A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F2B0-CA3E-4FC2-8EE0-F500EDA3D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048E-C287-4BBD-84A8-22E7BADC1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72C7-3D76-4A52-B1DB-E7FAD3A23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6F82-BC80-49ED-8708-12E35E9F2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745A-5EE2-4DCC-83A8-EA93A3FAC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A59E-84CD-4454-8E33-3442004B0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4889-73BA-4FF2-9F49-FE781D10D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F345-AD85-4483-99AF-B57B9539A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7958-FF90-4018-8157-8FE5E4454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计算机应用基础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7774-BB9E-4ECD-BF17-302BDAAB6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63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-11160" y="2060640"/>
            <a:ext cx="9155160" cy="276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42920" y="184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章  文字处理软件的应用</a:t>
            </a:r>
            <a:r>
              <a:rPr b="0" lang="zh-CN" sz="2400" spc="-1" strike="noStrike">
                <a:solidFill>
                  <a:srgbClr val="0c71e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400" y="2214360"/>
            <a:ext cx="80010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保存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快速访问工具栏中的“保存”按钮，或 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→ “保存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文档的第一次保存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如果是第一次保存，会弹出“另存为”对话框，在对话框中选择文档所要保存的位置 ，输入要保存的文件名，选择要保存的文件的格式（系统默认格式为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文档”），单击“保存”按钮即可。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2007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文档的默认扩展名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.DOCX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8B68-3533-4B62-B4A2-392338B3442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9624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保存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400" y="2214720"/>
            <a:ext cx="8429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中文录入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用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Ctrl+Shift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组合键切换不同中文输入法，在插入点后录入文本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英文录入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用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Ctrl+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空格”在英文输入法与当前中文输入法之间进行快速切换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录入特殊字符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插入”选项卡 → 在“特殊符号组”里选择合适的符号，或单击符号按钮，再单击“更多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”，打开“插入特殊符号”窗口，找到所需的特殊符号后，双击即可在当前位置插入特殊字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7CBE-B79C-4A14-88EC-D298F7FF97E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14240" y="1357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录入文档内容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13880" y="2357280"/>
            <a:ext cx="7286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文本的选择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可以用键盘或鼠标进行文本的选择，结合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Shift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Ctrl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键可以进行多种方式的选择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文本的移动、复制与删除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编辑内容的撤消与恢复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25B8-7FC8-4DDB-99B1-1F76D73DE2D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14240" y="1357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编辑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85880" y="2357280"/>
            <a:ext cx="7500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关闭当前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单击文档窗口右上方的“关闭”按钮，或使用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中的“关闭”命令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退出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2007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单击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 → 退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，系统会关闭所有的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文档窗口，并退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程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D845-A9E0-4090-955F-7F5F159EECC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14240" y="1357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 退出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28440" y="2214360"/>
            <a:ext cx="47149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页面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阅读版式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eb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版式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大纲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普通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7EF2-32FA-4874-BE91-52FC2B4AE1A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4240" y="1357200"/>
            <a:ext cx="59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认识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Word2007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视图方式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459E-C60F-4B2B-A016-C333426B2CE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档属性的设置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密文档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查找与替换文本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FCA-52B8-429B-ACC7-F0860721F12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使读者能够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 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文本与段落格式设置的基本操作方法，为进一步美化文档奠定基础。</a:t>
            </a:r>
            <a:r>
              <a:rPr b="1" lang="zh-CN" sz="2800" spc="-1" strike="noStrike">
                <a:solidFill>
                  <a:srgbClr val="0c71e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8C9-0106-4BD7-B9A7-FC186BA4682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形及字体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符缩放、间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段落对齐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段落缩进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行间距与段间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项目符号与编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边框和底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首字下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400" y="2214720"/>
            <a:ext cx="82580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中文字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系统默认的中文字体是宋体，常用字体有：宋体、仿宋、黑体、楷体、隶书等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字体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的文字，如标题“关于计算机技能大赛的通知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开始”选项卡 → 单击“字体”下拉列表框右侧的下拉箭头 → 出现下拉列表框，拖动列表框右边的滚动条，选择合适的字体，如“方正舒体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6EC-882C-48C3-A737-FD7F3B6919C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599480" y="13572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体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8400" y="2214360"/>
            <a:ext cx="825804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字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系统默认字号为五号，字号大小有两种标准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号制：初号、小初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…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八号，字号的标称数越小，字形越大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磅制：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.5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…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72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字号的标称数越小，字形越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字号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的文字，如标题“关于计算机技能大赛的通知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开始”选项卡 → “字号”下拉列表框右侧的小箭头，弹出下拉列表框，选择合适的字号，如“一号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78FD-653A-4727-B75A-E9E803DBB21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456920" y="135720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号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C286-86BF-4D6A-8A01-0BD5974C421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5840" y="1643040"/>
            <a:ext cx="8229600" cy="29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 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crosof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推出的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下的系列办公软件之一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的基础上进行了大规模的改进而来的，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不但继承了历代版本的特长，而且根据用户的使用习惯和需求进行了更加人性化的改进。它既适合一般办公人员使用，又适合专业排版人员使用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7120" y="1928520"/>
            <a:ext cx="82584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加粗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标题文字“一、大赛项目与内容”，单击“字体”功能组中的“加粗”按钮，选中文字的字型变为加粗状态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斜体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“请同学们踊跃参加！”，单出“字体”功能组中的“斜体”按钮，选中文字的字型变为斜体状态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加下划线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“所制作的视频文件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...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，单击“字体”组中的“下划线”旁边的小箭头，在弹出的列表框中选择“双下划线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加着重号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“能独立播放的视频文件”，单击“字体”组右下角的“对话框启动器”按钮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在“字体”对话框中单击“着重号”下拉列表框，选择“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.”,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再单击“确定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D2AC-85A2-4828-A3E7-B32348CEDB0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8252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形及字体效果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400" y="2214360"/>
            <a:ext cx="825804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字符缩放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择文本，如“本校教学楼六层机房”，单击“字体”功能组右下角的“对话框启动器”按钮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在“字体”对话框中单击“字符间距”选项卡，单击“缩放”后面的下拉列表框，选择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150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字符间距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文本，如 “参赛选手依据大赛组委会提供的文档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这一段内容，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在“字体”对话框中的“字符间距”选项卡中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选择间距为“加宽”，磅值为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.5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磅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417C-7ABD-41F1-B782-724CDCB67DF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03960" y="135720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符缩放、间距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居中对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利用“段落”功能组中的“居中对齐”按钮进行设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右对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利用“段落”功能组中的“右对齐”按钮进行设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分散对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利用“段落”功能组中的“分散对齐”按钮进行设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5C48-8B33-4FC5-849C-E04DA4435AD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段落对齐方式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段落的缩进包括四种方式，即左缩进、右缩进、首行缩进和悬挂缩进，可以通过拖动标尺或段落命令两种方式完成，前者直接方便，后者容易精确定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E1A9-5E11-473B-9AC4-36D361105F7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段落缩进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行间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行间距是指段落中相邻两行之间的距离，段间距包括段前间距与段后间距，段前间距指当前段与上一段之间的距离，段后间距指当前段与下一段之间的距离。通过对间距的设置，可使文档的层次更加清晰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欲设置的段落，在“段落”对话框中设置“行距”、 “段前”、“段后”值后，单击“确定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5E70-609D-44A7-B470-0703EE7A291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8144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行间距与段间距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项目符号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需要设置项目符号的部分，如文档中的“一、大赛项目与内容”下面的三个小标题，再单击“段落”功能组中的“项目符号”按钮旁边的小箭头 ，下拉列表中选择合适的形状符号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项目编号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需要设置项目编号的部分，如文档内容中“三、成绩评定”下面的三个小标题。再单击“段落”功能组中的“编号”按钮旁边的小箭头，在弹出下拉列表中选择合适的格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116E-BB6D-4ACA-AA17-5B30E388689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8144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项目符号与编号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14240" y="20718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段落边框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边框的段落，如“二、比赛时间、地点”下面的内容，单击“段落”功能组中“边框”按钮旁边的小箭头，在弹出的列表中选择“外侧框线”，为选中的部分添加上外侧框线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字符边框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文本，如“三、成绩评定”下第二行的文字“规定部分” ，再单击“字体”功能组中的“字符边框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底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文本，如标题文字“关于计算机技能大赛的通知” ，单击“段落”功能组中“底纹”按钮旁边的小箭头，在打开主题颜色列表中选择准备应用的底纹，如“白色，背景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深色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5%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74CA-28F9-4636-8DBB-DF3E3C476DA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678320" y="135720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九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边框和底纹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85880" y="2285640"/>
            <a:ext cx="71438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将光标定位于第一段文本中，单击“插入”选项卡，在“文本”功能组中单击“首字下沉”按钮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选择“首字下沉选项”，在“首字下沉”对话框中设置位置为“下沉”，并设置字体及下沉行数，如字体为“幼圆”，下沉行数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再单击“确定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8191-8266-4A38-AAC9-5DEAAF026AA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十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首字下沉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E886-DB2E-4170-A337-6862DD07936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000160" y="1714680"/>
            <a:ext cx="4500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样式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格式刷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超链接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DED0-5E6D-4CC9-B584-45787ED6E2B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学习了设置字符和段落的格式之后，往往还要对整个版面的格式进行设置，以达到最好的打印效果。通过本任务的学习，要求读者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页面格式设置的基本操作方法，并掌握分栏操作、页眉和页脚设置及文档的打印方法。</a:t>
            </a:r>
            <a:r>
              <a:rPr b="1" lang="zh-CN" sz="2800" spc="-1" strike="noStrike">
                <a:solidFill>
                  <a:srgbClr val="0c71e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5AE8-A48E-4D87-9258-4FDEC2C28E8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2071440"/>
            <a:ext cx="7604280" cy="23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学习单元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4.1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制作基础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word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文档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学习单元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4.2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制作各种表格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学习单元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4.3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制作电子小报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pic>
        <p:nvPicPr>
          <p:cNvPr id="100" name="Picture 7" descr="MCj04355460000[1]"/>
          <p:cNvPicPr/>
          <p:nvPr/>
        </p:nvPicPr>
        <p:blipFill>
          <a:blip r:embed="rId1"/>
          <a:stretch/>
        </p:blipFill>
        <p:spPr>
          <a:xfrm>
            <a:off x="6261120" y="4370400"/>
            <a:ext cx="21272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37A1-5D00-458D-8A7E-371BB2B617D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99800" y="2385720"/>
            <a:ext cx="44290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纸张大小和方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页边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分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页眉与页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印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8A30-393F-4C02-ADEA-0114A52BD90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967760" y="135720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纸张大小和方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9" name="内容占位符 2"/>
          <p:cNvSpPr/>
          <p:nvPr/>
        </p:nvSpPr>
        <p:spPr>
          <a:xfrm>
            <a:off x="714240" y="2357280"/>
            <a:ext cx="7858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Word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默认的纸张大小是办公中最常用的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A4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设置纸张大小：单击“页面布局”选项卡， 在“页面设置”功能组中单击“纸张大小”按钮 ，再选择合适的页面大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纸张方向有“纵向”和“横向”两种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设置纸张方向：单击“页面布局”选项卡，在“页面设置”功能组中单击“纸张方向”按钮 ，再按要求选择合适的方向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54A-2970-4AF1-B903-47D98818282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530720" y="135720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页边距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3" name="内容占位符 2"/>
          <p:cNvSpPr/>
          <p:nvPr/>
        </p:nvSpPr>
        <p:spPr>
          <a:xfrm>
            <a:off x="714240" y="2357280"/>
            <a:ext cx="7858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方法：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页面布局”→ “页面设置”→ 单击“页边距”按钮，在弹出的列表中选择合适的页边距类型即可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如果需要的页边距类型在列表中没有列出，则需要选择列表底部的“自定义页边距”，再分别对上、下、左、右边距进行设置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8AE8-4C36-4570-BA70-56A45C6072B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456920" y="135720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分栏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7" name="内容占位符 2"/>
          <p:cNvSpPr/>
          <p:nvPr/>
        </p:nvSpPr>
        <p:spPr>
          <a:xfrm>
            <a:off x="714240" y="2357280"/>
            <a:ext cx="7858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采用分栏后，能够让整体页面布局错落有致，多种多样。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如要对该“通知”中正文第一段进行了分栏处理，操作方法如下：选中要设置分栏的段落，在“页面布局”选项卡的“页面设置”功能组中，单击“分栏”按钮 ，打开“分栏”对话框，选择“两栏”，单击“确定”按钮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2A11-45FC-4433-A5B2-315D3259448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678320" y="135720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页眉与页脚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1" name="内容占位符 2"/>
          <p:cNvSpPr/>
          <p:nvPr/>
        </p:nvSpPr>
        <p:spPr>
          <a:xfrm>
            <a:off x="285840" y="2071800"/>
            <a:ext cx="84294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页眉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在“插入”选项卡中的“页眉和页脚”功能组中，单击“页眉”按钮 ，选择 “空白”选项，光标处于页眉编辑区，键入文字，并设置文字的字体后，单击 “关闭页眉和页脚”按钮退出页眉编辑状态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页脚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单击“页脚”按钮，在弹出页脚列表中选择合适的模板，如“现代型（奇数页）”，系统会自动为页脚添加该模板的图形与页码，再键入内容，设置字体，最后退出页脚编辑状态即可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页码格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页码”，选择“设置页码格式”，在“页码格式”对话框中选择合适的编号格式后，单击“确定”按钮即可完成设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DAAF-EB2E-4894-9460-0B99ACBE796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56920" y="135720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打印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500040" y="2071800"/>
            <a:ext cx="8215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打印预览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操作方法：单击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→“打印”→“打印预览”，当前窗口变为打印预览窗口，在此窗口中，可对文档的页面进行操作，预览完毕后单击“关闭预览”按钮返回到文档的编辑状态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打印文档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操作方法：单击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→“打印”→“打印”，调出“打印”对话框，选择要使用的打印机、页面范围，并输入要打印的数量后，单击确定，即可将文档发送至指定的打印机进行打印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A895-41DF-4EB2-A97E-B190C4FDA50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500120" y="1857240"/>
            <a:ext cx="4500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设置文字方向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设置分隔符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70B9-7EE6-4CCD-96C6-CD7C244B6BF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.2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各种表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可以制作各种文本文档，而且可以用来制作各种表格。它在处理表格方面比以前的版本功能更为强大，操作也更方便。在本学习单元中，我们将制作一份学校常用的“课程表”，以此为例学习表格制作的一般方法， 再结合实战训练以达到熟练掌握各种表格的制作方法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3490-54D8-4B7C-A8F2-97E0DDEC6C3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85520" y="1963440"/>
            <a:ext cx="385740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创建表格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表格工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格内容的编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、列的插入与删除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元格的合并与拆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929120" y="1963800"/>
            <a:ext cx="385776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文字的格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行高，列宽的调整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绘制斜线表头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设置边框与底纹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75EF-0E28-4F6E-8804-8FAB9094BB6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599480" y="13572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创建表格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0" name="内容占位符 2"/>
          <p:cNvSpPr/>
          <p:nvPr/>
        </p:nvSpPr>
        <p:spPr>
          <a:xfrm>
            <a:off x="571680" y="2214720"/>
            <a:ext cx="7858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通过移动鼠标创建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插入”→ “表格”，单击“表格”按钮 ，在出现的“插入表格”列表区域中移动鼠标，选中需要的行、列，单击鼠标左键后即可插入表格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使用对话框创建表格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在单击“表格”按钮后，选择“插入表格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在“插入表格”对话框 中，输入列数、行数，再单击“确定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绘制表格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表格”按钮后，选择“绘制表格”，指针会变为铅笔状，先绘制一个矩形，以定义表格的外边界，然后在该矩形内绘制列线和行线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0667-E5CE-4E78-96D6-5CC4BE7F9B0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.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基础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ord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文档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技能大赛文档并录入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比赛通知中字体、段落的格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赛通知的整体页面设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52DE-CBB6-486F-A518-4C11C2B5C02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认识表格工具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4" name="内容占位符 2"/>
          <p:cNvSpPr/>
          <p:nvPr/>
        </p:nvSpPr>
        <p:spPr>
          <a:xfrm>
            <a:off x="571680" y="2214720"/>
            <a:ext cx="7858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在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文档中，当表格处于操作状态时，会自动激活功能区中的 “表格工具”，包括“设计”与“布局”两个选项卡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indent="35892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计”选项卡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该选项卡主要对表格的外观、样式进行设计。包括“表格样式选项”、“表样式”、“绘图边框”功能组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indent="35892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布局”对话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主要对表格的布局进行编辑。包括“表”、“行和列”、“合并”、“单元格大小”、“对齐方式”及“数据”功能组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00D8-1903-4841-980D-08B16E6AF43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678320" y="135720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表格内容的编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8" name="内容占位符 2"/>
          <p:cNvSpPr/>
          <p:nvPr/>
        </p:nvSpPr>
        <p:spPr>
          <a:xfrm>
            <a:off x="1071720" y="2214720"/>
            <a:ext cx="6715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录入表格的基本内容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表格内容的选择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包括单个单元格、连续单元格、不连续的单元格、整行、整列及整个表格的选择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表格内容的复制、移动与删除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D330-F204-4B64-8584-01EBD42BE6A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8252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行、列的插入与删除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2" name="内容占位符 2"/>
          <p:cNvSpPr/>
          <p:nvPr/>
        </p:nvSpPr>
        <p:spPr>
          <a:xfrm>
            <a:off x="642960" y="2143080"/>
            <a:ext cx="77151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行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行，在表格工具中的“布局”选项卡中选择“行和列”功能组，再根据要求单击“在上方插入”按钮或“在下方插入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列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列，在表格工具中的“布局”选项卡中选择“行和列”功能组，再根据要求单击“在左方插入”按钮或“在右方插入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行或列的删除方法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先将当前插入点置于要删除的行或列中，再单击“行和列”功能组中“删除”按钮 ，在列表中选择“删除行”或“删除列”即可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780B-869A-4FD3-88B7-FEF7158C749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8144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单元格的合并与拆分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6" name="内容占位符 2"/>
          <p:cNvSpPr/>
          <p:nvPr/>
        </p:nvSpPr>
        <p:spPr>
          <a:xfrm>
            <a:off x="642960" y="214308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单元格的合并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合并的单元格， 选择 “布局”选项卡中的“合并”功能组，再单击“合并单元格”按钮 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单元格的拆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要拆分的单元格（或要重新拆分的多个连续的单元格），单击“合并”功能组中的“拆分单元格”按钮 ，在“拆分单元格”对话框中输入拆分后单元格的行数和列数 ，单击“确定”按钮，即可实现单元格的拆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239-4901-4AAF-A9BC-61A415A474F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678320" y="13572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文字的格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0" name="内容占位符 2"/>
          <p:cNvSpPr/>
          <p:nvPr/>
        </p:nvSpPr>
        <p:spPr>
          <a:xfrm>
            <a:off x="642960" y="214308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字体格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与普通文本的设置方法相同 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文字方向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文字方向的单元格，单击“布局”选项卡“对齐”功能组中的“文字方向”按钮 ，文字方向会自动切换为“垂直”方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单元格的对齐方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对齐的单元格， 选择“布局”选项卡，在“对齐方式”功能组中单击合适的对齐方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AE42-7F6F-4021-A190-B1C7CA6CACD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行高，列宽的调整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4" name="内容占位符 2"/>
          <p:cNvSpPr/>
          <p:nvPr/>
        </p:nvSpPr>
        <p:spPr>
          <a:xfrm>
            <a:off x="1357200" y="2286000"/>
            <a:ext cx="607248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用鼠标拖动的方法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平均分布行高与列宽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精确设定行高与列宽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98B2-4BF4-461B-BFCC-6FA6351E23D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绘制斜线表头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8" name="内容占位符 2"/>
          <p:cNvSpPr/>
          <p:nvPr/>
        </p:nvSpPr>
        <p:spPr>
          <a:xfrm>
            <a:off x="642960" y="2214720"/>
            <a:ext cx="70722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方法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将当前插入点定位于表格内，单击“布局”选项卡“表”功能组中的“绘制斜线表头”按钮，弹出“插入斜线表头”对话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表头样式”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字体大小”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输入行标题与列标题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确定后，就会在表格的第一行第一列处插入表头。单击生成的斜线表头，移动控制点使其适合所在单元格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8CC3-201C-4B49-981D-4829369421E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678320" y="13572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九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边框与底纹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2" name="内容占位符 2"/>
          <p:cNvSpPr/>
          <p:nvPr/>
        </p:nvSpPr>
        <p:spPr>
          <a:xfrm>
            <a:off x="928800" y="2286000"/>
            <a:ext cx="53578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表格外部框线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表格内部框线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底纹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A7FB-E407-4B2B-980B-5C88FD88F1C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500120" y="1857240"/>
            <a:ext cx="5572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文本与表格的转换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格的拆分与合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自动套用格式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格的计算与排序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格内容跨页时表头的设置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42A1-7EE2-4794-AB90-726DE2F32FB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.3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电子小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28800" y="1785600"/>
            <a:ext cx="61754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新年贺卡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招生简章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9B36-5C8C-4B04-99E4-8FAB2846A69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熟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环境，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辑窗口的基本使用，包括文本输入、文本编辑、文本的保存与退出等。会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的各种视图方便地查看文档。</a:t>
            </a:r>
            <a:r>
              <a:rPr b="1" lang="zh-CN" sz="2800" spc="-1" strike="noStrike">
                <a:solidFill>
                  <a:srgbClr val="0c71e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687E-8F79-43D4-8F26-69881E14B24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达到对图文混排中常用功能的熟练操作，如在制作贺卡的过程中，使读者掌握图片、剪贴画、艺术字、文本框等对象的插入及格式设置方法，为制作更复杂的综合排版奠定基础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6863-40B0-43DB-AC41-A79A41CF4EB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页面设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图片与剪贴画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环绕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片位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片大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片效果与样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自选图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与编辑艺术字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文本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D122-65D6-432E-BFF2-046E827A727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599840" y="1357200"/>
            <a:ext cx="20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页面设置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9" name="内容占位符 2"/>
          <p:cNvSpPr/>
          <p:nvPr/>
        </p:nvSpPr>
        <p:spPr>
          <a:xfrm>
            <a:off x="928800" y="2286000"/>
            <a:ext cx="74293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基本页面设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设置纸张大小及纸张方向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页面边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页面填充效果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1D1-7A7C-4462-91EA-CA2B7CB46F5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插入图片与剪贴画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3" name="内容占位符 2"/>
          <p:cNvSpPr/>
          <p:nvPr/>
        </p:nvSpPr>
        <p:spPr>
          <a:xfrm>
            <a:off x="1285920" y="2357280"/>
            <a:ext cx="57862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外部图片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OFFIC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自带的剪贴画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WEB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收藏集”中的剪贴画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EAEE-25CF-4E25-A5E2-CD2E98480CF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4168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文字环绕方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7" name="内容占位符 2"/>
          <p:cNvSpPr/>
          <p:nvPr/>
        </p:nvSpPr>
        <p:spPr>
          <a:xfrm>
            <a:off x="714240" y="2357280"/>
            <a:ext cx="77155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文字环绕方式介绍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环绕方式包括：嵌入型、四周型环绕、紧密型环绕、衬于文字下方、浮于文字上方、上下型环绕、穿越型环绕及编辑环绕顶点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图片的文字环绕方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图片，选择图片工具的“格式”选项卡 ，在“排列”功能组中单击“文字环绕”按钮 ，选择合适的环绕方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79A0-2344-4565-82D3-1F4CBD3722E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调整图片位置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1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用鼠标直接拖动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利用“位置”按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进行精确定位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71F4-0D0B-4F1F-8D0C-73CCF7703CF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59624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调整图片大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5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拖动鼠标调整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精确调整图片大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裁剪图片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7BF6-DAD0-4930-9975-50DD0ADFAF9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8252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调整图片效果与样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9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调整图片的亮度与对比度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图片中的透明色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图片样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E9B2-E485-4ECC-BAB6-59CFADCCA08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插入自选图形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3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绘制自选图形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图形的旋转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自选图形的形状样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组合图形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CE23-39AB-4067-83FA-0E77E27F67E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插入与编辑艺术字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内容占位符 2"/>
          <p:cNvSpPr/>
          <p:nvPr/>
        </p:nvSpPr>
        <p:spPr>
          <a:xfrm>
            <a:off x="714240" y="2357280"/>
            <a:ext cx="8001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艺术字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插入”选项卡，在“文本”组中单击“艺术字”按钮 ，选择合适的艺术字样式，在弹出的“编辑艺术字文字”对话框输入文字后单击“确定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编辑艺术字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包括更改艺术字外形、更改三维效果、更改艺术字颜色、更改阴影颜色等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5E31-6778-4BF1-BFC5-EEEEA2422DA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ord2007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创建任务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任务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录入任务文档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任务文档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退出任务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视图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CA71-6612-4A5C-AAF7-3DCE28E50E6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530720" y="135720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九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使用文本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内容占位符 2"/>
          <p:cNvSpPr/>
          <p:nvPr/>
        </p:nvSpPr>
        <p:spPr>
          <a:xfrm>
            <a:off x="714240" y="2357280"/>
            <a:ext cx="8001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文本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使用内置样式的文本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绘制文本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绘制竖排文本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编辑文本框中的文本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隐藏文本框的边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D5D1-D53F-490D-82FF-A5ADED3B951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357200" y="1571760"/>
            <a:ext cx="58579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超链接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式的使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在文档中插入脚注和尾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插入题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创建目录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邮件合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修订功能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DFF1-9AA8-4655-ABDA-70369FD5DB1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使读者进一步掌握图文混排的基本方法，综合应用本章所学知识，制作一份图文表并茂的综合排版样张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招生简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80AE-847F-4912-B58D-2A246AB8486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页面设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作标题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录入文字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学校概况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招生计划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“招生专业人数比例”图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“专业分布图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助学办法”与“继续深造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联系方式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页眉、页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招生简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37D6-ECB3-43A3-95DA-D4442D6FDCD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5" name="WordArt 2"/>
          <p:cNvSpPr txBox="1"/>
          <p:nvPr/>
        </p:nvSpPr>
        <p:spPr>
          <a:xfrm>
            <a:off x="2556000" y="2565360"/>
            <a:ext cx="4176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400" y="2142720"/>
            <a:ext cx="82580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当用户电脑中安装有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Microsoft Office 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时，启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的方法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单击“开始”→“程序”→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Microsoft Offic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→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Microsoft Office Word 2007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如果桌面上已经创建了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 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快捷图标，可双击该快捷图标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1A29-3E35-4AC2-BD1C-633C8F31D30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65120" y="1357200"/>
            <a:ext cx="34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启动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Word2007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857240" y="4357800"/>
            <a:ext cx="928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F63C-D8D0-4C18-A7AB-830824689A0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369440" y="1357200"/>
            <a:ext cx="40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认识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Word2007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界面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20" name="图片 6" descr="未命名-1.jpg"/>
          <p:cNvPicPr/>
          <p:nvPr/>
        </p:nvPicPr>
        <p:blipFill>
          <a:blip r:embed="rId1"/>
          <a:stretch/>
        </p:blipFill>
        <p:spPr>
          <a:xfrm>
            <a:off x="214200" y="1928880"/>
            <a:ext cx="8715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4240" y="2285640"/>
            <a:ext cx="7500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以后，系统会自动生成一个名为“文档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的空白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创建新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→“新建”，打开对话框后，选择“空白文档”，再单击右下方的“创建”按钮，系统便会生成一个新的文档，并将新文档作为当前文档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19E8-4B8A-4F3A-8C17-12035238025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创建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1:59:57Z</dcterms:created>
  <dc:creator>subin</dc:creator>
  <dc:description/>
  <dc:language>en-US</dc:language>
  <cp:lastModifiedBy>subin</cp:lastModifiedBy>
  <dcterms:modified xsi:type="dcterms:W3CDTF">2009-08-30T03:02:47Z</dcterms:modified>
  <cp:revision>166</cp:revision>
  <dc:subject/>
  <dc:title>计算机应用基础</dc:title>
</cp:coreProperties>
</file>